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CD27-B6ED-4C8E-8C98-12674C4A9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86C9-8815-4FC3-8F0C-880E8E97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2885-6989-4386-880F-3AC1BE68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9AF9-EB00-4AB2-BF68-6C92342D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4519-AF39-4A29-BFE1-8F20932D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BA77-D100-4A56-B0F2-D5564B45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EA12-56F3-46CB-86DE-6D60F566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50B8-E180-4C86-B468-5D2D532B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1459-2670-4806-B80C-47986D2A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A2F9-BEF9-42D9-B8C1-A310226A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69F6-5B47-46C9-AD19-B52A0AEF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3644-5BBB-4AA6-95FE-123E0B56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32E1-C45F-40D7-9E68-B31709A0D5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228240"/>
            <a:ext cx="89917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пределить число протонов, электронов и нейтронов в атоме аз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Что называют электрическим то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Что необходимо для создания и существования эл.тока в провод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ие превращения энергии происходят внутри источников то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олните таблиц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77,   № 998,   № 999 (В.И.Лукаши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3124080"/>
          <a:ext cx="8686800" cy="2397240"/>
        </p:xfrm>
        <a:graphic>
          <a:graphicData uri="http://schemas.openxmlformats.org/drawingml/2006/table">
            <a:tbl>
              <a:tblPr/>
              <a:tblGrid>
                <a:gridCol w="609840"/>
                <a:gridCol w="1904760"/>
                <a:gridCol w="1600200"/>
                <a:gridCol w="2743200"/>
                <a:gridCol w="1828800"/>
              </a:tblGrid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источников т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ойство источника то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 получения электрического т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льван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моэле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эле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кумуля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y</cp:lastModifiedBy>
  <dcterms:modified xsi:type="dcterms:W3CDTF">2012-01-12T13:06:2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